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49E-69BA-4562-8701-ACB1DA48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388944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2498040"/>
            <a:ext cx="388944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ED1-BE1F-4FBA-A46A-76CFD1B1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932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1CA-8EDB-4286-8038-46BE5028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1080" y="100800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160" y="100800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249804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1080" y="249804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160" y="249804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E0E-C9DD-467D-8106-042AA9A4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008000"/>
            <a:ext cx="388944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E99-F42A-4904-9DEF-134741E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388944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EC4-9A79-4A8F-B451-DC24D323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169-D622-4E24-B8D8-45BCDE54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25C-5267-4B6B-B64A-CEFF5670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173160"/>
            <a:ext cx="3889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83B-CCB6-49BF-87C0-2ED58994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E28-6E81-4062-8313-58A483C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76F-085F-4337-8929-DFD0A6E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2498040"/>
            <a:ext cx="388944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B60-73B3-48D2-A39C-96C6ED46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008000"/>
            <a:ext cx="388944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54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17400" indent="-123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22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00" y="3935160"/>
            <a:ext cx="1008000" cy="299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935160"/>
            <a:ext cx="1368360" cy="299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935160"/>
            <a:ext cx="1008360" cy="299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B9B8F930-A941-453C-A9EE-A6DA227103B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343160"/>
            <a:ext cx="3673440" cy="9252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280" y="2447640"/>
            <a:ext cx="30258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1080" cy="381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0" y="0"/>
            <a:ext cx="1292400" cy="134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168720" y="324000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846520" y="0"/>
            <a:ext cx="1474560" cy="144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3240000"/>
            <a:ext cx="1655640" cy="10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584360" y="2521080"/>
            <a:ext cx="1657440" cy="129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44360" y="1297080"/>
            <a:ext cx="410364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Τα τραγούδια ταξιδεύουν μόνα </a:t>
            </a:r>
            <a:endParaRPr b="1" lang="en-US" sz="2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080" y="4176720"/>
            <a:ext cx="16002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Πάνος Πετράκης </a:t>
            </a:r>
            <a:endParaRPr b="1" lang="en-US" sz="1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1" name=""/>
          <p:cNvSpPr/>
          <p:nvPr/>
        </p:nvSpPr>
        <p:spPr>
          <a:xfrm>
            <a:off x="3220920" y="4078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68720" y="4248000"/>
            <a:ext cx="1152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Δέσποινα Παντελίδου</a:t>
            </a:r>
            <a:endParaRPr b="1" i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28720" y="2592360"/>
            <a:ext cx="1440000" cy="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Βασίλης Τρόλας</a:t>
            </a:r>
            <a:endParaRPr b="1" i="1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3080" y="1152360"/>
            <a:ext cx="1224000" cy="1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Ηλίας Πολίτης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81440" y="1152360"/>
            <a:ext cx="1439640" cy="1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Θανάσης Κομνηνός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1584360" y="3816360"/>
            <a:ext cx="1584360" cy="50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1368360" y="0"/>
            <a:ext cx="64764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0" y="2736720"/>
            <a:ext cx="1584360" cy="50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368360" y="647640"/>
            <a:ext cx="1368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pperplate Gothic Light"/>
              </a:rPr>
              <a:t>GLOBAL PRODUCTION 2019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pperplate Gothic Light"/>
              <a:ea typeface="Copperplate Gothic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1640" y="1800360"/>
            <a:ext cx="1079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Ενορχήστρωση </a:t>
            </a:r>
            <a:endParaRPr b="1" lang="en-US" sz="1600" spc="1" strike="noStrike">
              <a:ln w="9360">
                <a:solidFill>
                  <a:srgbClr val="bbe0e3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Ηλίας Πολίτης </a:t>
            </a:r>
            <a:endParaRPr b="1" lang="en-US" sz="1600" spc="1" strike="noStrike">
              <a:ln w="9360">
                <a:solidFill>
                  <a:srgbClr val="bbe0e3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Χρήστος Μεϊμάρογλου(10)</a:t>
            </a:r>
            <a:endParaRPr b="1" lang="en-US" sz="1600" spc="1" strike="noStrike">
              <a:ln w="9360">
                <a:solidFill>
                  <a:srgbClr val="bbe0e3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10:13:18Z</dcterms:created>
  <dc:creator>ELIAS POLITIS</dc:creator>
  <dc:description/>
  <dc:language>en-US</dc:language>
  <cp:lastModifiedBy>ELIAS POLITIS</cp:lastModifiedBy>
  <dcterms:modified xsi:type="dcterms:W3CDTF">2019-10-16T14:00:08Z</dcterms:modified>
  <cp:revision>15</cp:revision>
  <dc:subject/>
  <dc:title>Διαφάνεια 1</dc:title>
</cp:coreProperties>
</file>